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05C-72CC-4F33-9665-F60D735E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784-9B12-4825-9E3A-23390D2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23B-B19A-4F22-A0E9-64566D2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354-CFED-4372-A424-558E28E6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6F1-6525-45E6-A239-0800BAEE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CF84-AC7B-47B3-AE29-034E710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EC53-9F4C-484E-81EB-BB19114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DC43-79B2-43AB-B39A-DD261FC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F6AA-409C-4286-8FBE-1C45A38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4810-1989-444A-9CB0-04985C27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1FF-22B6-426D-BBE2-F81724A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D5F-F642-42CE-936B-10550A7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48DD-DFCB-40B6-A58D-8EFE8AD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F1D-3749-4886-B561-8593B2F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4074-861B-4379-9EDC-327CD47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7104-D561-4410-93A9-8BD973F2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19A-CBE2-415F-9A5A-D102270D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BC5-E2CD-4011-98DE-8770180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1E3-6D4E-4C67-9471-2F67E446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5CE-26CB-4BF0-A0F5-812F0C5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2CC-42AA-4171-A2B1-9FA37C4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1F8-19BB-4179-8A7D-FFAFCD8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6EA-6D3C-4505-819A-C678CC4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F10-4353-4D06-9D4F-8462F71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143B-49EC-4AB3-B202-DF16C3F37B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53BB-9CBF-4014-A002-C6947F3FB4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4579920"/>
            <a:ext cx="81532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Мара Атанасов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СОУ ”Екзарх Антим І”                                              Казанлъ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71640" y="1916280"/>
            <a:ext cx="662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АРХИТЕКТУРНИ СТИЛОВ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ококо се отличава с грациозност, лекота. Този стил е логически резултат от развитието на Барока, но заменя тъмните цветове, позлатата  със светли тонове- розово, синьо, зелено, бял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90920" cy="316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278604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916280"/>
            <a:ext cx="778032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Част от западноевропейската култу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витието на този  стил започва в     началото   на  V  век  в  Западна Европ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549360"/>
            <a:ext cx="316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ГОТИ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зразът  “готи”, за първи път се използва  през Ренесанса и означава “варвари” за нахлулите в Римската импер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2336760" cy="388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295740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тиката се характеризира с обстойна украса, островърхи арки и сложно оребрени сводо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744720" cy="30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аражда се около 1600г. в Рим и се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пространява   голяма част от Европ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47628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БАР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мата “барок” означава неправилна перл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ли фалшив скъпоценен камъ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3301920" cy="302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925720" cy="2842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архитектурата Барокът се отличава от другите стилове с пищност, претрупаност, изобилие на детайли.Акцент се поставя върху струпването на обеми, колонади, куполи, цветни ефек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2120760" cy="3403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3306960" cy="300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тил в изкуството и архитектурат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ъзниква в началото на ХVІІІ век във Франц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Разпространява се в Западна и Централна Европа, Русия и Герман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87640" y="549360"/>
            <a:ext cx="338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РОКОК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мата “рококо” от френски означава раков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17520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456000" cy="295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009960" cy="22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6:46:50Z</dcterms:created>
  <dc:creator>Home</dc:creator>
  <dc:description/>
  <dc:language>en-US</dc:language>
  <cp:lastModifiedBy>Home</cp:lastModifiedBy>
  <dcterms:modified xsi:type="dcterms:W3CDTF">2012-03-17T19:20:49Z</dcterms:modified>
  <cp:revision>4</cp:revision>
  <dc:subject/>
  <dc:title>Слайд 1</dc:title>
</cp:coreProperties>
</file>